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E9301-4FBD-43ED-A263-FF3BAC03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DDB20-B3CE-4598-8CEE-08400F06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75F7A-3137-4078-B0BB-3C829572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75C5-FB4E-4547-A48F-A0885DD8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725A-DEF4-47D2-9DCB-9821F9AB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D601-0F93-4224-83CD-8610C7C9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CA29-6B2B-4725-ADDD-353C21B9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54EF-951A-47E9-B4CB-94346E56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A012-0B7F-4087-A5B9-688E38E6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3EFC-D934-4E43-9710-9F110B88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F5D4-E820-4B72-BE07-8E652EF0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FDA7F-8D4C-42E0-9546-CAABEC3B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46BF-9EC3-41B4-BF1B-626BA679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853F-F763-4AD0-8C1A-715B96EE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8981-5550-4953-A793-CC4B2A62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7169-CB17-492F-A2C6-CB598AB1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8C93-1E44-4CFB-9FF8-69CE678F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12BD6-1C23-4138-901C-7F403367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011B8-2F91-4949-996B-FC70E944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BBDCF-289C-4B2A-A10D-12DF4A51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E33A6-279A-4FA0-8C5E-8FFAA5E8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C7B3-31BB-4B22-9418-AEB70736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C78BA-5486-47BF-A784-4C4CE1C3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C89D4-B59A-49E7-ABEF-E58BC98E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B89F-5593-46D8-A55E-17125A5334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CCD5-A754-4495-A8A7-816DE7A12C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6B8F-C8C9-4675-9F8A-2631C5429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F118-8580-47D8-8A1C-1AF8F9B512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eader Election</a:t>
            </a:r>
            <a:br>
              <a:rPr sz="50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. 3, 4.1, 15.1, 15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ien-Liang Fo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9734-61DA-43AC-908A-BA2C812A282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4581F22-B209-4EA3-A98E-01DCEE5C22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Complexit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mplex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38080" y="3048120"/>
          <a:ext cx="7238880" cy="1849320"/>
        </p:xfrm>
        <a:graphic>
          <a:graphicData uri="http://schemas.openxmlformats.org/drawingml/2006/table">
            <a:tbl>
              <a:tblPr/>
              <a:tblGrid>
                <a:gridCol w="2276280"/>
                <a:gridCol w="1658880"/>
                <a:gridCol w="330372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Hal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299FA-8631-4AAE-8E5A-3185D0691B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6BE062-F12B-42A7-A945-A5331ABC93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Hirshberg and Sincl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ommunication complexity, O(n) tim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irectional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15000" y="38736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05720" y="4483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24840" y="5549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05520" y="5549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00600" y="448308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72200" y="4102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529040" y="494028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462360" y="5778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5929200" y="493992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081840" y="4177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45680" y="450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42240" y="555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39240" y="555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7960" y="450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C98A7-2074-441F-8200-A3B0A7635E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5FA267-CE92-4812-A0DD-FD6FF053B2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phases 0, 1, 2,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pha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end UID in both directions for a distance of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of received UID same as L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s UID comes back, continue to next 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receives its outbound UID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00800" y="7491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91520" y="1359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10640" y="2425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91320" y="2425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86400" y="1359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58000" y="97776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214840" y="18162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148160" y="265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6615000" y="18158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767640" y="10537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17000" y="76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31480" y="1380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28040" y="243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25040" y="243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13760" y="137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772400" y="838080"/>
            <a:ext cx="838080" cy="4572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288"/>
                </a:moveTo>
                <a:cubicBezTo>
                  <a:pt x="476" y="192"/>
                  <a:pt x="424" y="96"/>
                  <a:pt x="336" y="48"/>
                </a:cubicBezTo>
                <a:cubicBezTo>
                  <a:pt x="248" y="0"/>
                  <a:pt x="124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81880" y="1676520"/>
            <a:ext cx="355680" cy="914400"/>
          </a:xfrm>
          <a:custGeom>
            <a:avLst/>
            <a:gdLst/>
            <a:ahLst/>
            <a:rect l="l" t="t" r="r" b="b"/>
            <a:pathLst>
              <a:path w="224" h="576">
                <a:moveTo>
                  <a:pt x="192" y="0"/>
                </a:moveTo>
                <a:cubicBezTo>
                  <a:pt x="208" y="144"/>
                  <a:pt x="224" y="288"/>
                  <a:pt x="192" y="384"/>
                </a:cubicBezTo>
                <a:cubicBezTo>
                  <a:pt x="160" y="480"/>
                  <a:pt x="80" y="528"/>
                  <a:pt x="0" y="57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431640"/>
            <a:ext cx="2286000" cy="1016280"/>
          </a:xfrm>
          <a:custGeom>
            <a:avLst/>
            <a:gdLst/>
            <a:ahLst/>
            <a:rect l="l" t="t" r="r" b="b"/>
            <a:pathLst>
              <a:path w="1440" h="640">
                <a:moveTo>
                  <a:pt x="1440" y="640"/>
                </a:moveTo>
                <a:cubicBezTo>
                  <a:pt x="1424" y="448"/>
                  <a:pt x="1408" y="256"/>
                  <a:pt x="1248" y="160"/>
                </a:cubicBezTo>
                <a:cubicBezTo>
                  <a:pt x="1088" y="64"/>
                  <a:pt x="688" y="0"/>
                  <a:pt x="480" y="64"/>
                </a:cubicBezTo>
                <a:cubicBezTo>
                  <a:pt x="272" y="128"/>
                  <a:pt x="136" y="336"/>
                  <a:pt x="0" y="5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1600200"/>
            <a:ext cx="1981440" cy="1574640"/>
          </a:xfrm>
          <a:custGeom>
            <a:avLst/>
            <a:gdLst/>
            <a:ahLst/>
            <a:rect l="l" t="t" r="r" b="b"/>
            <a:pathLst>
              <a:path w="1248" h="992">
                <a:moveTo>
                  <a:pt x="1104" y="0"/>
                </a:moveTo>
                <a:cubicBezTo>
                  <a:pt x="1176" y="232"/>
                  <a:pt x="1248" y="464"/>
                  <a:pt x="1152" y="624"/>
                </a:cubicBezTo>
                <a:cubicBezTo>
                  <a:pt x="1056" y="784"/>
                  <a:pt x="720" y="928"/>
                  <a:pt x="528" y="960"/>
                </a:cubicBezTo>
                <a:cubicBezTo>
                  <a:pt x="336" y="992"/>
                  <a:pt x="168" y="904"/>
                  <a:pt x="0" y="81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1828800"/>
            <a:ext cx="266760" cy="685800"/>
          </a:xfrm>
          <a:custGeom>
            <a:avLst/>
            <a:gdLst/>
            <a:ahLst/>
            <a:rect l="l" t="t" r="r" b="b"/>
            <a:pathLst>
              <a:path w="168" h="432">
                <a:moveTo>
                  <a:pt x="0" y="432"/>
                </a:moveTo>
                <a:cubicBezTo>
                  <a:pt x="60" y="372"/>
                  <a:pt x="120" y="312"/>
                  <a:pt x="144" y="240"/>
                </a:cubicBezTo>
                <a:cubicBezTo>
                  <a:pt x="168" y="168"/>
                  <a:pt x="156" y="84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914400"/>
            <a:ext cx="533160" cy="38088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0"/>
                </a:moveTo>
                <a:cubicBezTo>
                  <a:pt x="92" y="28"/>
                  <a:pt x="184" y="56"/>
                  <a:pt x="240" y="96"/>
                </a:cubicBezTo>
                <a:cubicBezTo>
                  <a:pt x="296" y="136"/>
                  <a:pt x="316" y="188"/>
                  <a:pt x="336" y="24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5913-1FF0-4C18-949A-F5D429F0D66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256098-E332-4E89-B522-6EAA240682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-base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S and HS are comparison-based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compare U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unication lower-bound i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3.6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the lower bound in gene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4F00-1CAA-4FB2-9852-59AD79DA3E3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7B6571-C413-425B-91B1-4044FC5F80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mparison-based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ommunication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known to al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directional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FAC46-CEA6-4A44-88F8-FF7362B57AF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B3CDAF-A210-4099-B724-731F58E510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phases 1, 2, 3,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unds, round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, …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node with UI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ists, it is circulated around the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reach round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 and the node with UID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not received any UID before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with minimum UID becomes the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29400" y="12063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520120" y="1816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9240" y="28828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19920" y="28828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15000" y="18162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86600" y="143496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8443440" y="22734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376760" y="311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6843600" y="22730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996240" y="15109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4560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560080" y="183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5664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5364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42360" y="183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2CAF0-AC09-40AC-945F-5A8073D559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378260-3B6E-46FE-AF35-5B95219E6D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found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essages are sent except between round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) ·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1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ssages are 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mplexity is n ·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bound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928D9-8C2C-49EF-877E-16F0F5818B5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E71865-07F3-4A41-9BF0-51735F4985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peed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non-comparison-base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require knowledg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directional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ends its UI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ID travels one hop ever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U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keeps track of lowest UID seen and discards anything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ken returns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7300A-2E0B-4CBC-9B4F-18B0F578A4B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AC39B7-8599-40ED-AD9E-1BAA263A9D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Speeds Algorithm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:  2 ·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: O(n ·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rageous unbounded time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gorithm serves as a counterexampl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ac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that impossibility result cannot be 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927E3-B901-4448-B18D-E1B96C2E87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4F4189-ED87-4556-88A7-9F716D4E05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Comparison-based algorith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chieve message costs of less than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but at the cost of unbounded tim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bounded time complexity, the message lower bound for non-comparison-based algorithms is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3.7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68A29-5DA5-4C25-8024-C9D780ED0D5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CE177F-A4C1-4D55-BDF8-53BAE61F09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processes are connected in a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rocess eventually declares itself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en ring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communication (e.g., lighthouse rou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600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28195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286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16765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124080" y="1828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11444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267080" y="3048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98108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4120" y="2133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9112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0481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35268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562720" y="1523520"/>
            <a:ext cx="914400" cy="228600"/>
          </a:xfrm>
          <a:prstGeom prst="line">
            <a:avLst/>
          </a:prstGeom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63800" y="1332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40480" y="20178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409720" y="2209680"/>
            <a:ext cx="1143000" cy="15264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FB699-FD64-47F7-AECA-56E2832ADE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06E96F-5591-4264-A5AA-9456A7B7D5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2: General Synch.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each with 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connected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1600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81480" y="28195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2286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16765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48120" y="1828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267080" y="3048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276720" y="198108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19112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9548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0481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335268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4495320" y="198072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4976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5152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56640" y="167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6760" y="2803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37320" y="33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32560" y="31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D16DF-8098-4970-9487-B62D6CC19FB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3F2423-CD36-4FAA-B385-C19534D615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on the 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eaders may have to declare themselves as 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E4CA0-1232-4751-9FA3-E0456B49CAB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127560-4EFA-4950-AAD0-3D3014CDDD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Max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cess remembers the largest UID it has s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round, propagate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ll outgoing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unds, i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wn UID, declare self as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76B61-61B5-4055-9465-E18E79CDA3A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0C662B-9FC9-4F2A-A16A-3A369E130F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Max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 a generalization of L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complexity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· 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is the number of outgoing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works if only the upper-bound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0A8BE-D3C1-45F7-A312-AAD944BEEF4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BE6FEF-3B30-47D6-AD32-65FD7FDB57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odMax Algorithm Proof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at aft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unds,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reached all nodes within diamet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node with the maximum 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that w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ll nodes will have received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13600" y="4191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80280" y="54100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17960" y="48769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85000" y="5943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03960" y="4267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146560" y="4419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365880" y="5638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99200" y="52578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75160" y="457200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708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289560" y="4648320"/>
            <a:ext cx="152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088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94280" y="5715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14656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451480" y="6019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6594120" y="45720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48560" y="487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5032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55080" y="4262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315560" y="539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36120" y="5965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31000" y="5710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E65EB-B7FF-4FAF-8B3C-5C99E26C0F1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BF7DE3-F58A-4703-9FD5-58F9A6DF6F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ivial optimization of Flood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broadcast the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changed in the current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ness is obvious, but the proof is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F7EEC-51A9-47D6-9072-6607E7B58FC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DDB092-D395-44BE-9F53-71918D9447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Algorithm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of meth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ly relate OptFloodMax to Flood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ag to each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broadcast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r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,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t-nbr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34F1-EF3F-41B0-B9DD-BB3A8206F5B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0023D9-3ECA-465D-8341-0BC0CF7B23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Proof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lete the proof, relate the states of OptFloodMax to Flood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both are started simultaneously, after rou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tates of the two algorithms are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Lynch 4.1 for proof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FF2CF-B1C6-4929-A3C3-E71F51422CD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763949-8A52-4A63-B3B9-322B8863D3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es connected via reliable FIFO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cess distinguished by 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do not operate in lock-step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/O Automata to model processes and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i="1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e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28FC1-C1C6-491B-B449-0DDD92BA506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8BE1CE-761B-4989-B750-F6D673A1B0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3: Asynchronous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arranged in a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bidirectional 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ire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wise neighbor can be distinguished from counterclockwise neigh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453440" y="18921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443800" y="2502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62920" y="3568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0" y="356868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39040" y="2502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910640" y="212076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8367480" y="29592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300440" y="379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6767280" y="29588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919920" y="21967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6964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483760" y="252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806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0776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66400" y="252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D805A-FA8E-43D0-B58D-270E8E11783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5B9291-98D0-48B2-8D9C-A8A7AD5E95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ssibility Result for Identical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olve leader election problem with identic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the sequence of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rocess will declare self as leader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Assume identical processes distinguished by a unique identifier (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D is a positive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8886B-C0EE-4C6B-8A2C-93A38CB28C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5470CF-888E-4871-AD1D-5DAACE44FF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LC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synchronous LCR algorithm ex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buffer of each process must be able to hold up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lgorithm is intuitively correct, but the proof is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know where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relate location o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C275-5A6F-487D-B4F0-7A0591B1C4B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032131-5AB5-42E1-8719-D533FC1CB5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LCR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for 0 ≤ r ≤ n-1, eventually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rs in the buffer sen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34000">
                <a:solidFill>
                  <a:srgbClr val="000000"/>
                </a:solidFill>
                <a:latin typeface="Arial"/>
              </a:rPr>
              <a:t>max+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eventually appear on channel connecting to the inpu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F584-50B6-430A-AA92-BA2F4211EDD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03BC6E-9751-4E15-AF2F-E78B5825D5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H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nchronous HS algorithm can also be trivially modified to work in asynchronous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make sure all channels can handle message pile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C249F-A407-4C13-87F0-25D6BD1C7E1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582C29-1C70-4B73-B9F7-76C28707F8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irectional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s on asynchronously determined ph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s an arbitrary process as the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D8BCA-191E-48DD-8D95-F85A4FAFF1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4CCBC7-BAA9-4F17-B937-D2EC3C9A6D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an b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irst phase, all nodes send their UID two hops clock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ID of immediate counter-clockwise neighbor is highest of the three, adopt it as its new UID and remain 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enter relay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ollowing phases, active node sends their new UID to their two clock-wise active neighbors and 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active node sees that its immediate counterclockwise active neighbor has the same UID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FA3E-D7BD-4B36-A5F0-9D203760844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BDA6F0-5FD1-425E-B7FA-506086841F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2096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320040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1168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81080" y="23623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1168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32004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2096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0004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621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40004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17144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7672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0696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267080" y="320040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23623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76720" y="3200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8604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481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368604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45744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43040" y="2895480"/>
            <a:ext cx="5335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638680" y="23623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29400" y="3200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629400" y="2362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38680" y="320040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4836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104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604836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8197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753080" y="29718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1523880"/>
            <a:ext cx="1447920" cy="762120"/>
          </a:xfrm>
          <a:prstGeom prst="cloudCallout">
            <a:avLst>
              <a:gd name="adj1" fmla="val -51754"/>
              <a:gd name="adj2" fmla="val 837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61920" y="4267080"/>
            <a:ext cx="38124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9252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52640" y="51055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8324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5264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832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61920" y="51055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9252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716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337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3716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1430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14600" y="4800600"/>
            <a:ext cx="5335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7196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0220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162320" y="51055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9292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62320" y="42670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7196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434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58128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3526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05320" y="4267080"/>
            <a:ext cx="38124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3592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29604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296040" y="42670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05320" y="51055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57150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4864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1044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20116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201160" y="42670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1044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20120" y="4419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818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7619760" y="5257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3915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315200" y="3276720"/>
            <a:ext cx="1447920" cy="761760"/>
          </a:xfrm>
          <a:prstGeom prst="cloudCallout">
            <a:avLst>
              <a:gd name="adj1" fmla="val -42106"/>
              <a:gd name="adj2" fmla="val 10104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48320" y="48006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05720" y="48006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1F08D-7FCD-4460-93B9-43D4E3BB38F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F174D4-5028-4A08-9177-38C62B2D02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Time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ch phase, the number of active processes is decreased by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o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ha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fir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ases complete in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pperbound on time to process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pperbound on output queue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the time cost i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38E79-78B1-41D8-8CD0-95A5D2AA042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9D731D-2936-48D0-99E2-2C50522618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terson Algorithm Message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t m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each phase, each process sends at most two messages (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cost =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log 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38376-F133-484F-98AE-17868968B66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E188E6-9DC2-4097-8038-0B7DEB89B8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 Lower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unication lower bound of asynchronous comparison-based algorithms is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ous rings is a restriction on asynchronous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15.1.4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AB9CA-D861-44A2-B0A7-E37C9859963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DF01D5-C715-4743-AEEF-1DAE8A4E36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4: Asynchronous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irectional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connected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cal processes except 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51680" y="1905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11836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56400" y="25909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23080" y="3657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042400" y="19810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985000" y="2133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203960" y="3352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37280" y="29718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213600" y="228600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088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7128000" y="236232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34696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32360" y="3429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59850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6289560" y="3733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7432200" y="22860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86640" y="25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0884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093520" y="197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53640" y="3108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74200" y="367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869440" y="3424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8AF85-E19B-4786-B5B0-43FA03ED281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DF0856-E6D4-4D64-9FD7-C5156AF995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ous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rocessing done in lock-step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un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om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-passing is done between 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95DD7-6F07-4B4C-A22C-BC70D82C15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5D98A8-A16C-4347-9A3B-AF4D921C04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Flood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re are no rounds, FloodMax cannot be trivially extended to asynch.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 round number to each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ode collects all incoming round messages before process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95535-F303-4B56-8003-B7BDE8A3690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121522-8648-4D3B-80D1-43AEC7D5FF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other  general asynch. network protocols that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ing Tree, Convergecast, and Broad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ers to simulate synchronou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snapshots for termina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CF1A9-636D-44C0-AE0E-8CBFDFC8245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271DFB-57CD-4048-B0E2-B7E21068B0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leader election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protocols exist for r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for asynchronous networks are more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28A97-F21A-4F57-823B-D6F69F1A335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3AD67B-6EDE-4DEC-A9B4-E770F8F2F5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: Synchronous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connected in a 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es can distinguish clockwise from counterclockwise neighb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16002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209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32767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32767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2096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828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952520" y="26668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8858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352680" y="2666880"/>
            <a:ext cx="15264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505320" y="19051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54680" y="161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69160" y="22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65720" y="328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62720" y="328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51440" y="2228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955F9-991D-4856-BB7B-44640B2D78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60CBCB-CDB6-4836-BFAB-E43D7F7523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on the 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eaders may have to declare themselves as 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g may be unidirectional or bidire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ode may or may not kn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size of the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CC3E2-FB63-4701-893E-0627422CE1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9F8333-F3DB-4F2B-8E4D-728D5949DE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by Le Lann, Cha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oberts  (197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nidirectional r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leader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rocess passes its UI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reception, compare to own 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arger: Pass to nex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maller: Dis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qual: Declare self a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53360" y="816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44080" y="1425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62840" y="24922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43880" y="24922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38960" y="1425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10560" y="10447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67400" y="18828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200720" y="2720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667200" y="18824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819840" y="11203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69560" y="82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404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80600" y="249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77600" y="249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66320" y="144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6A100-F9B4-4195-A39F-6E6FC6910D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33302D-ADAB-4B7C-8C00-A2618FF67A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Algorithm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umber of 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nds, the n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way from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be send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= n, UI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have travele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33920" y="1587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24640" y="2197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43400" y="32637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24440" y="3263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19520" y="2197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91120" y="1816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547960" y="265428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481280" y="3492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3947760" y="26539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00400" y="1891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5012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64600" y="22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1160" y="32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8160" y="32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46880" y="221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1676520"/>
            <a:ext cx="660240" cy="1523880"/>
          </a:xfrm>
          <a:custGeom>
            <a:avLst/>
            <a:gdLst/>
            <a:ahLst/>
            <a:rect l="l" t="t" r="r" b="b"/>
            <a:pathLst>
              <a:path w="416" h="960">
                <a:moveTo>
                  <a:pt x="0" y="0"/>
                </a:moveTo>
                <a:cubicBezTo>
                  <a:pt x="176" y="112"/>
                  <a:pt x="352" y="224"/>
                  <a:pt x="384" y="384"/>
                </a:cubicBezTo>
                <a:cubicBezTo>
                  <a:pt x="416" y="544"/>
                  <a:pt x="304" y="752"/>
                  <a:pt x="192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8560" y="2133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35520" y="3352680"/>
            <a:ext cx="82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34290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7DAE4-F475-4816-9E74-40206BBACA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3DC231-EAC1-4E5D-AC23-F9AE852208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ting L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R algorithm never ha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leaders continuously listen for incoming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leader pass a report message around th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general way to transform a non-halting algorithm into a halting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 Co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al 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2BAEA-396B-4471-B6B8-3195D98829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B653A2-7BFB-42D1-BB0D-7E781D770E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3:25:07Z</dcterms:created>
  <dc:creator>liang</dc:creator>
  <dc:description/>
  <dc:language>en-US</dc:language>
  <cp:lastModifiedBy>ochipara</cp:lastModifiedBy>
  <dcterms:modified xsi:type="dcterms:W3CDTF">2003-09-05T14:06:09Z</dcterms:modified>
  <cp:revision>145</cp:revision>
  <dc:subject/>
  <dc:title>Leader Election</dc:title>
</cp:coreProperties>
</file>